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61F-D1D4-416A-970F-D0269323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832-83A6-47EF-8B4F-C3AC5501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866-3ED1-49D7-A8F7-F00798EF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67D-3463-4C7B-9773-1DC4C8AE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823-7CEC-4077-9658-C45A9D05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4EF-0774-4F12-97E0-3FCC3CE7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E63-3FCC-42EA-875F-208F5DE2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A0D-AE9B-48FA-A5ED-692348EE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6F3-7743-4368-BBE8-5276C819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4E72-877D-4D64-91EB-FE92AEEA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A1B-5CC4-424F-8574-B79A390B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024-EEFA-4FAB-B5B9-D7105592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E55F-76C0-4F86-8732-C319B969F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5840" y="1484280"/>
            <a:ext cx="8570880" cy="3645000"/>
            <a:chOff x="285840" y="1484280"/>
            <a:chExt cx="8570880" cy="3645000"/>
          </a:xfrm>
        </p:grpSpPr>
        <p:pic>
          <p:nvPicPr>
            <p:cNvPr id="42" name="Picture 164" descr=""/>
            <p:cNvPicPr/>
            <p:nvPr/>
          </p:nvPicPr>
          <p:blipFill>
            <a:blip r:embed="rId1"/>
            <a:stretch/>
          </p:blipFill>
          <p:spPr>
            <a:xfrm>
              <a:off x="646200" y="1989000"/>
              <a:ext cx="8210520" cy="19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3" descr=""/>
            <p:cNvPicPr/>
            <p:nvPr/>
          </p:nvPicPr>
          <p:blipFill>
            <a:blip r:embed="rId2"/>
            <a:stretch/>
          </p:blipFill>
          <p:spPr>
            <a:xfrm>
              <a:off x="285840" y="2205000"/>
              <a:ext cx="22212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077840" y="4005360"/>
              <a:ext cx="5144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035080" y="4005360"/>
              <a:ext cx="40032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2854440" y="4005360"/>
              <a:ext cx="6220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3894120" y="4005360"/>
              <a:ext cx="4255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4738680" y="4005360"/>
              <a:ext cx="32400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5479920" y="4005360"/>
              <a:ext cx="76212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6694560" y="4005360"/>
              <a:ext cx="46332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7542360" y="4005360"/>
              <a:ext cx="342720" cy="8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11"/>
            <a:stretch/>
          </p:blipFill>
          <p:spPr>
            <a:xfrm>
              <a:off x="8304120" y="4005360"/>
              <a:ext cx="241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85" descr=""/>
            <p:cNvPicPr/>
            <p:nvPr/>
          </p:nvPicPr>
          <p:blipFill>
            <a:blip r:embed="rId12"/>
            <a:stretch/>
          </p:blipFill>
          <p:spPr>
            <a:xfrm>
              <a:off x="5759280" y="1484280"/>
              <a:ext cx="144792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064200" y="213984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03960" y="181296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03960" y="148752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03960" y="2174760"/>
              <a:ext cx="674640" cy="33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62760" y="1484280"/>
              <a:ext cx="6746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62760" y="1820880"/>
              <a:ext cx="6746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68880" y="2473200"/>
              <a:ext cx="67320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 wee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944720" y="662040"/>
            <a:ext cx="3274920" cy="4062240"/>
            <a:chOff x="1944720" y="662040"/>
            <a:chExt cx="3274920" cy="4062240"/>
          </a:xfrm>
        </p:grpSpPr>
        <p:sp>
          <p:nvSpPr>
            <p:cNvPr id="62" name=""/>
            <p:cNvSpPr/>
            <p:nvPr/>
          </p:nvSpPr>
          <p:spPr>
            <a:xfrm>
              <a:off x="1965240" y="692280"/>
              <a:ext cx="59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Wee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692280"/>
              <a:ext cx="61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21200" y="692280"/>
              <a:ext cx="58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4760" y="692280"/>
              <a:ext cx="669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19480" y="692280"/>
              <a:ext cx="73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9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29160" y="692280"/>
              <a:ext cx="69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pot 10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050920" y="977760"/>
              <a:ext cx="2954520" cy="457200"/>
              <a:chOff x="2050920" y="977760"/>
              <a:chExt cx="2954520" cy="45720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511360" y="977760"/>
                <a:ext cx="2494080" cy="457200"/>
                <a:chOff x="2511360" y="977760"/>
                <a:chExt cx="2494080" cy="457200"/>
              </a:xfrm>
            </p:grpSpPr>
            <p:pic>
              <p:nvPicPr>
                <p:cNvPr id="70" name="Picture 8" descr=""/>
                <p:cNvPicPr/>
                <p:nvPr/>
              </p:nvPicPr>
              <p:blipFill>
                <a:blip r:embed="rId1">
                  <a:lum bright="10000"/>
                </a:blip>
                <a:stretch/>
              </p:blipFill>
              <p:spPr>
                <a:xfrm>
                  <a:off x="2511360" y="1066680"/>
                  <a:ext cx="381240" cy="368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1" descr=""/>
                <p:cNvPicPr/>
                <p:nvPr/>
              </p:nvPicPr>
              <p:blipFill>
                <a:blip r:embed="rId2">
                  <a:lum bright="20000"/>
                </a:blip>
                <a:stretch/>
              </p:blipFill>
              <p:spPr>
                <a:xfrm>
                  <a:off x="3073680" y="1053720"/>
                  <a:ext cx="43164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9" descr=""/>
                <p:cNvPicPr/>
                <p:nvPr/>
              </p:nvPicPr>
              <p:blipFill>
                <a:blip r:embed="rId3">
                  <a:lum bright="10000"/>
                </a:blip>
                <a:stretch/>
              </p:blipFill>
              <p:spPr>
                <a:xfrm>
                  <a:off x="3637080" y="1041120"/>
                  <a:ext cx="4190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29" descr=""/>
                <p:cNvPicPr/>
                <p:nvPr/>
              </p:nvPicPr>
              <p:blipFill>
                <a:blip r:embed="rId4">
                  <a:lum bright="20000"/>
                </a:blip>
                <a:srcRect l="0" t="0" r="0" b="23622"/>
                <a:stretch/>
              </p:blipFill>
              <p:spPr>
                <a:xfrm>
                  <a:off x="4176720" y="1060200"/>
                  <a:ext cx="324000" cy="37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22" descr=""/>
                <p:cNvPicPr/>
                <p:nvPr/>
              </p:nvPicPr>
              <p:blipFill>
                <a:blip r:embed="rId5">
                  <a:lum bright="10000"/>
                </a:blip>
                <a:stretch/>
              </p:blipFill>
              <p:spPr>
                <a:xfrm>
                  <a:off x="4567320" y="977760"/>
                  <a:ext cx="43812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5" name=""/>
              <p:cNvSpPr/>
              <p:nvPr/>
            </p:nvSpPr>
            <p:spPr>
              <a:xfrm>
                <a:off x="2050920" y="10839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047680" y="1506600"/>
              <a:ext cx="2960280" cy="399960"/>
              <a:chOff x="2047680" y="1506600"/>
              <a:chExt cx="2960280" cy="39996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2508120" y="1506600"/>
                <a:ext cx="2499840" cy="399960"/>
                <a:chOff x="2508120" y="1506600"/>
                <a:chExt cx="2499840" cy="399960"/>
              </a:xfrm>
            </p:grpSpPr>
            <p:pic>
              <p:nvPicPr>
                <p:cNvPr id="78" name="Picture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8120" y="1557360"/>
                  <a:ext cx="38088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2" descr=""/>
                <p:cNvPicPr/>
                <p:nvPr/>
              </p:nvPicPr>
              <p:blipFill>
                <a:blip r:embed="rId7">
                  <a:lum bright="20000"/>
                </a:blip>
                <a:stretch/>
              </p:blipFill>
              <p:spPr>
                <a:xfrm>
                  <a:off x="3070080" y="1570320"/>
                  <a:ext cx="437760" cy="336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633480" y="1532160"/>
                  <a:ext cx="437760" cy="37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0" descr=""/>
                <p:cNvPicPr/>
                <p:nvPr/>
              </p:nvPicPr>
              <p:blipFill>
                <a:blip r:embed="rId9">
                  <a:lum bright="20000"/>
                </a:blip>
                <a:srcRect l="0" t="0" r="0" b="10236"/>
                <a:stretch/>
              </p:blipFill>
              <p:spPr>
                <a:xfrm>
                  <a:off x="4173120" y="1525680"/>
                  <a:ext cx="342720" cy="38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23" descr=""/>
                <p:cNvPicPr/>
                <p:nvPr/>
              </p:nvPicPr>
              <p:blipFill>
                <a:blip r:embed="rId10">
                  <a:lum bright="10000"/>
                </a:blip>
                <a:stretch/>
              </p:blipFill>
              <p:spPr>
                <a:xfrm>
                  <a:off x="4563720" y="1506600"/>
                  <a:ext cx="44424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3" name=""/>
              <p:cNvSpPr/>
              <p:nvPr/>
            </p:nvSpPr>
            <p:spPr>
              <a:xfrm>
                <a:off x="2047680" y="15861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050920" y="1978200"/>
              <a:ext cx="2954520" cy="469800"/>
              <a:chOff x="2050920" y="1978200"/>
              <a:chExt cx="2954520" cy="469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2511360" y="1978200"/>
                <a:ext cx="2494080" cy="469800"/>
                <a:chOff x="2511360" y="1978200"/>
                <a:chExt cx="2494080" cy="469800"/>
              </a:xfrm>
            </p:grpSpPr>
            <p:pic>
              <p:nvPicPr>
                <p:cNvPr id="86" name="Picture 10" descr=""/>
                <p:cNvPicPr/>
                <p:nvPr/>
              </p:nvPicPr>
              <p:blipFill>
                <a:blip r:embed="rId11">
                  <a:lum bright="10000"/>
                </a:blip>
                <a:stretch/>
              </p:blipFill>
              <p:spPr>
                <a:xfrm>
                  <a:off x="2511360" y="2124360"/>
                  <a:ext cx="368640" cy="323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3" descr=""/>
                <p:cNvPicPr/>
                <p:nvPr/>
              </p:nvPicPr>
              <p:blipFill>
                <a:blip r:embed="rId12">
                  <a:lum bright="20000"/>
                </a:blip>
                <a:srcRect l="2216" t="13695" r="0" b="0"/>
                <a:stretch/>
              </p:blipFill>
              <p:spPr>
                <a:xfrm>
                  <a:off x="3073680" y="2028960"/>
                  <a:ext cx="43164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41" descr=""/>
                <p:cNvPicPr/>
                <p:nvPr/>
              </p:nvPicPr>
              <p:blipFill>
                <a:blip r:embed="rId13">
                  <a:lum bright="10000"/>
                </a:blip>
                <a:stretch/>
              </p:blipFill>
              <p:spPr>
                <a:xfrm>
                  <a:off x="3637080" y="2086200"/>
                  <a:ext cx="45072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31" descr=""/>
                <p:cNvPicPr/>
                <p:nvPr/>
              </p:nvPicPr>
              <p:blipFill>
                <a:blip r:embed="rId14">
                  <a:lum bright="20000"/>
                </a:blip>
                <a:srcRect l="0" t="0" r="-4624" b="20217"/>
                <a:stretch/>
              </p:blipFill>
              <p:spPr>
                <a:xfrm>
                  <a:off x="4176720" y="2035440"/>
                  <a:ext cx="33660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24" descr=""/>
                <p:cNvPicPr/>
                <p:nvPr/>
              </p:nvPicPr>
              <p:blipFill>
                <a:blip r:embed="rId15">
                  <a:lum bright="10000"/>
                </a:blip>
                <a:stretch/>
              </p:blipFill>
              <p:spPr>
                <a:xfrm>
                  <a:off x="4567320" y="1978200"/>
                  <a:ext cx="43812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1" name=""/>
              <p:cNvSpPr/>
              <p:nvPr/>
            </p:nvSpPr>
            <p:spPr>
              <a:xfrm>
                <a:off x="2050920" y="2092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047680" y="2521080"/>
              <a:ext cx="2960280" cy="476280"/>
              <a:chOff x="2047680" y="2521080"/>
              <a:chExt cx="2960280" cy="4762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508120" y="2521080"/>
                <a:ext cx="2499840" cy="476280"/>
                <a:chOff x="2508120" y="2521080"/>
                <a:chExt cx="2499840" cy="476280"/>
              </a:xfrm>
            </p:grpSpPr>
            <p:pic>
              <p:nvPicPr>
                <p:cNvPr id="94" name="Picture 11" descr=""/>
                <p:cNvPicPr/>
                <p:nvPr/>
              </p:nvPicPr>
              <p:blipFill>
                <a:blip r:embed="rId16">
                  <a:lum bright="10000"/>
                </a:blip>
                <a:srcRect l="0" t="12153" r="0" b="0"/>
                <a:stretch/>
              </p:blipFill>
              <p:spPr>
                <a:xfrm>
                  <a:off x="2508120" y="2577960"/>
                  <a:ext cx="39996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4" descr=""/>
                <p:cNvPicPr/>
                <p:nvPr/>
              </p:nvPicPr>
              <p:blipFill>
                <a:blip r:embed="rId17">
                  <a:lum bright="20000"/>
                </a:blip>
                <a:stretch/>
              </p:blipFill>
              <p:spPr>
                <a:xfrm>
                  <a:off x="3070080" y="2521080"/>
                  <a:ext cx="44388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42" descr=""/>
                <p:cNvPicPr/>
                <p:nvPr/>
              </p:nvPicPr>
              <p:blipFill>
                <a:blip r:embed="rId18">
                  <a:lum bright="10000"/>
                </a:blip>
                <a:stretch/>
              </p:blipFill>
              <p:spPr>
                <a:xfrm>
                  <a:off x="3633480" y="2577960"/>
                  <a:ext cx="41868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32" descr=""/>
                <p:cNvPicPr/>
                <p:nvPr/>
              </p:nvPicPr>
              <p:blipFill>
                <a:blip r:embed="rId19">
                  <a:lum bright="20000"/>
                </a:blip>
                <a:srcRect l="0" t="0" r="2609" b="9917"/>
                <a:stretch/>
              </p:blipFill>
              <p:spPr>
                <a:xfrm>
                  <a:off x="4173120" y="2527200"/>
                  <a:ext cx="342720" cy="47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5" descr=""/>
                <p:cNvPicPr/>
                <p:nvPr/>
              </p:nvPicPr>
              <p:blipFill>
                <a:blip r:embed="rId20">
                  <a:lum bright="10000"/>
                </a:blip>
                <a:stretch/>
              </p:blipFill>
              <p:spPr>
                <a:xfrm>
                  <a:off x="4563720" y="2533680"/>
                  <a:ext cx="44424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9" name=""/>
              <p:cNvSpPr/>
              <p:nvPr/>
            </p:nvSpPr>
            <p:spPr>
              <a:xfrm>
                <a:off x="2047680" y="2638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035080" y="3068640"/>
              <a:ext cx="2986200" cy="495360"/>
              <a:chOff x="2035080" y="3068640"/>
              <a:chExt cx="2986200" cy="4953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2495520" y="3068640"/>
                <a:ext cx="2525760" cy="495360"/>
                <a:chOff x="2495520" y="3068640"/>
                <a:chExt cx="2525760" cy="495360"/>
              </a:xfrm>
            </p:grpSpPr>
            <p:pic>
              <p:nvPicPr>
                <p:cNvPr id="102" name="Picture 12" descr=""/>
                <p:cNvPicPr/>
                <p:nvPr/>
              </p:nvPicPr>
              <p:blipFill>
                <a:blip r:embed="rId21">
                  <a:lum bright="10000"/>
                </a:blip>
                <a:stretch/>
              </p:blipFill>
              <p:spPr>
                <a:xfrm>
                  <a:off x="2495520" y="3164040"/>
                  <a:ext cx="40032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5" descr=""/>
                <p:cNvPicPr/>
                <p:nvPr/>
              </p:nvPicPr>
              <p:blipFill>
                <a:blip r:embed="rId22">
                  <a:lum bright="20000"/>
                </a:blip>
                <a:stretch/>
              </p:blipFill>
              <p:spPr>
                <a:xfrm>
                  <a:off x="3057840" y="3068640"/>
                  <a:ext cx="539640" cy="49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43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621240" y="3157560"/>
                  <a:ext cx="43812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33" descr=""/>
                <p:cNvPicPr/>
                <p:nvPr/>
              </p:nvPicPr>
              <p:blipFill>
                <a:blip r:embed="rId24">
                  <a:lum bright="20000"/>
                </a:blip>
                <a:srcRect l="0" t="0" r="0" b="19195"/>
                <a:stretch/>
              </p:blipFill>
              <p:spPr>
                <a:xfrm>
                  <a:off x="4160880" y="3087720"/>
                  <a:ext cx="381240" cy="47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Picture 26" descr=""/>
                <p:cNvPicPr/>
                <p:nvPr/>
              </p:nvPicPr>
              <p:blipFill>
                <a:blip r:embed="rId25">
                  <a:lum bright="10000"/>
                </a:blip>
                <a:srcRect l="0" t="0" r="22264" b="0"/>
                <a:stretch/>
              </p:blipFill>
              <p:spPr>
                <a:xfrm>
                  <a:off x="4551480" y="30942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7" name=""/>
              <p:cNvSpPr/>
              <p:nvPr/>
            </p:nvSpPr>
            <p:spPr>
              <a:xfrm>
                <a:off x="2035080" y="3245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035080" y="3635280"/>
              <a:ext cx="2986200" cy="488880"/>
              <a:chOff x="2035080" y="3635280"/>
              <a:chExt cx="2986200" cy="488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2495520" y="3635280"/>
                <a:ext cx="2525760" cy="488880"/>
                <a:chOff x="2495520" y="3635280"/>
                <a:chExt cx="2525760" cy="488880"/>
              </a:xfrm>
            </p:grpSpPr>
            <p:pic>
              <p:nvPicPr>
                <p:cNvPr id="110" name="Picture 13" descr=""/>
                <p:cNvPicPr/>
                <p:nvPr/>
              </p:nvPicPr>
              <p:blipFill>
                <a:blip r:embed="rId26">
                  <a:lum bright="10000"/>
                </a:blip>
                <a:stretch/>
              </p:blipFill>
              <p:spPr>
                <a:xfrm>
                  <a:off x="2495520" y="3711240"/>
                  <a:ext cx="45108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6" descr=""/>
                <p:cNvPicPr/>
                <p:nvPr/>
              </p:nvPicPr>
              <p:blipFill>
                <a:blip r:embed="rId27">
                  <a:lum bright="20000"/>
                </a:blip>
                <a:stretch/>
              </p:blipFill>
              <p:spPr>
                <a:xfrm>
                  <a:off x="3057840" y="3635280"/>
                  <a:ext cx="514080" cy="488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44" descr=""/>
                <p:cNvPicPr/>
                <p:nvPr/>
              </p:nvPicPr>
              <p:blipFill>
                <a:blip r:embed="rId28">
                  <a:lum bright="10000"/>
                </a:blip>
                <a:stretch/>
              </p:blipFill>
              <p:spPr>
                <a:xfrm>
                  <a:off x="3621240" y="3723840"/>
                  <a:ext cx="399960" cy="39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34" descr=""/>
                <p:cNvPicPr/>
                <p:nvPr/>
              </p:nvPicPr>
              <p:blipFill>
                <a:blip r:embed="rId29">
                  <a:lum bright="20000"/>
                </a:blip>
                <a:srcRect l="4624" t="7430" r="2312" b="14861"/>
                <a:stretch/>
              </p:blipFill>
              <p:spPr>
                <a:xfrm>
                  <a:off x="4160880" y="3679560"/>
                  <a:ext cx="343080" cy="44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7" descr=""/>
                <p:cNvPicPr/>
                <p:nvPr/>
              </p:nvPicPr>
              <p:blipFill>
                <a:blip r:embed="rId30">
                  <a:lum bright="10000"/>
                </a:blip>
                <a:stretch/>
              </p:blipFill>
              <p:spPr>
                <a:xfrm>
                  <a:off x="4551480" y="3654000"/>
                  <a:ext cx="469800" cy="4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5" name=""/>
              <p:cNvSpPr/>
              <p:nvPr/>
            </p:nvSpPr>
            <p:spPr>
              <a:xfrm>
                <a:off x="2035080" y="37573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047680" y="4197240"/>
              <a:ext cx="2961000" cy="463680"/>
              <a:chOff x="2047680" y="4197240"/>
              <a:chExt cx="2961000" cy="4636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508120" y="4197240"/>
                <a:ext cx="2500560" cy="463680"/>
                <a:chOff x="2508120" y="4197240"/>
                <a:chExt cx="2500560" cy="463680"/>
              </a:xfrm>
            </p:grpSpPr>
            <p:pic>
              <p:nvPicPr>
                <p:cNvPr id="118" name="Picture 14" descr=""/>
                <p:cNvPicPr/>
                <p:nvPr/>
              </p:nvPicPr>
              <p:blipFill>
                <a:blip r:embed="rId31">
                  <a:lum bright="10000"/>
                </a:blip>
                <a:srcRect l="7439" t="0" r="7439" b="0"/>
                <a:stretch/>
              </p:blipFill>
              <p:spPr>
                <a:xfrm>
                  <a:off x="2508120" y="4222800"/>
                  <a:ext cx="438480" cy="43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7" descr=""/>
                <p:cNvPicPr/>
                <p:nvPr/>
              </p:nvPicPr>
              <p:blipFill>
                <a:blip r:embed="rId32">
                  <a:lum bright="20000"/>
                </a:blip>
                <a:stretch/>
              </p:blipFill>
              <p:spPr>
                <a:xfrm>
                  <a:off x="3070440" y="4254480"/>
                  <a:ext cx="419040" cy="406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45" descr=""/>
                <p:cNvPicPr/>
                <p:nvPr/>
              </p:nvPicPr>
              <p:blipFill>
                <a:blip r:embed="rId33">
                  <a:lum bright="10000"/>
                </a:blip>
                <a:stretch/>
              </p:blipFill>
              <p:spPr>
                <a:xfrm>
                  <a:off x="3633840" y="4267080"/>
                  <a:ext cx="43164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5" descr=""/>
                <p:cNvPicPr/>
                <p:nvPr/>
              </p:nvPicPr>
              <p:blipFill>
                <a:blip r:embed="rId34">
                  <a:lum bright="20000"/>
                </a:blip>
                <a:srcRect l="2041" t="9811" r="2551" b="9811"/>
                <a:stretch/>
              </p:blipFill>
              <p:spPr>
                <a:xfrm>
                  <a:off x="4173480" y="4241880"/>
                  <a:ext cx="343080" cy="41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35">
                  <a:lum bright="10000"/>
                </a:blip>
                <a:stretch/>
              </p:blipFill>
              <p:spPr>
                <a:xfrm>
                  <a:off x="4564080" y="4197240"/>
                  <a:ext cx="444600" cy="46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3" name=""/>
              <p:cNvSpPr/>
              <p:nvPr/>
            </p:nvSpPr>
            <p:spPr>
              <a:xfrm>
                <a:off x="2047680" y="43070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4720" y="901800"/>
              <a:ext cx="31669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44720" y="662040"/>
              <a:ext cx="316872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44720" y="4724280"/>
              <a:ext cx="3168720" cy="0"/>
            </a:xfrm>
            <a:prstGeom prst="line">
              <a:avLst/>
            </a:prstGeom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0" y="794520"/>
            <a:ext cx="29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5680" y="2060640"/>
            <a:ext cx="3261960" cy="3439080"/>
            <a:chOff x="1525680" y="2060640"/>
            <a:chExt cx="3261960" cy="3439080"/>
          </a:xfrm>
        </p:grpSpPr>
        <p:pic>
          <p:nvPicPr>
            <p:cNvPr id="129" name="Object 2" descr=""/>
            <p:cNvPicPr/>
            <p:nvPr/>
          </p:nvPicPr>
          <p:blipFill>
            <a:blip r:embed="rId1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30" name=""/>
            <p:cNvCxnSpPr/>
            <p:nvPr/>
          </p:nvCxnSpPr>
          <p:spPr>
            <a:xfrm>
              <a:off x="1625760" y="5292720"/>
              <a:ext cx="2141640" cy="5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1" name=""/>
            <p:cNvGrpSpPr/>
            <p:nvPr/>
          </p:nvGrpSpPr>
          <p:grpSpPr>
            <a:xfrm>
              <a:off x="4348080" y="2733840"/>
              <a:ext cx="439560" cy="2477160"/>
              <a:chOff x="4348080" y="2733840"/>
              <a:chExt cx="439560" cy="247716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8080" y="344304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48080" y="306936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48080" y="2846520"/>
                <a:ext cx="62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8080" y="396288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48080" y="457884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8080" y="5109120"/>
                <a:ext cx="6264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0920" y="273384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90920" y="29581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90920" y="3330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90920" y="385128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90920" y="446472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0920" y="4995360"/>
                <a:ext cx="396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4" name="Object 2" descr=""/>
            <p:cNvPicPr/>
            <p:nvPr/>
          </p:nvPicPr>
          <p:blipFill>
            <a:blip r:embed="rId2"/>
            <a:srcRect l="0" t="0" r="0" b="-97"/>
            <a:stretch/>
          </p:blipFill>
          <p:spPr>
            <a:xfrm>
              <a:off x="1525680" y="2352600"/>
              <a:ext cx="2800080" cy="31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34560" y="5156280"/>
              <a:ext cx="23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4040" y="51562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25520" y="5162400"/>
              <a:ext cx="111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Non-linear 3-10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0320" y="2060640"/>
              <a:ext cx="4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 flipV="1">
              <a:off x="1905120" y="5314320"/>
              <a:ext cx="1999440" cy="11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765080" y="873000"/>
            <a:ext cx="5254920" cy="5110200"/>
            <a:chOff x="1765080" y="873000"/>
            <a:chExt cx="5254920" cy="5110200"/>
          </a:xfrm>
        </p:grpSpPr>
        <p:grpSp>
          <p:nvGrpSpPr>
            <p:cNvPr id="151" name=""/>
            <p:cNvGrpSpPr/>
            <p:nvPr/>
          </p:nvGrpSpPr>
          <p:grpSpPr>
            <a:xfrm>
              <a:off x="1778040" y="1230480"/>
              <a:ext cx="4670280" cy="1542960"/>
              <a:chOff x="1778040" y="1230480"/>
              <a:chExt cx="4670280" cy="1542960"/>
            </a:xfrm>
          </p:grpSpPr>
          <p:pic>
            <p:nvPicPr>
              <p:cNvPr id="152" name="Picture 1" descr=""/>
              <p:cNvPicPr/>
              <p:nvPr/>
            </p:nvPicPr>
            <p:blipFill>
              <a:blip r:embed="rId1"/>
              <a:srcRect l="0" t="0" r="0" b="4969"/>
              <a:stretch/>
            </p:blipFill>
            <p:spPr>
              <a:xfrm>
                <a:off x="1778040" y="1230480"/>
                <a:ext cx="1581120" cy="1533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3" name="Picture 2" descr=""/>
              <p:cNvPicPr/>
              <p:nvPr/>
            </p:nvPicPr>
            <p:blipFill>
              <a:blip r:embed="rId2"/>
              <a:srcRect l="0" t="0" r="0" b="6376"/>
              <a:stretch/>
            </p:blipFill>
            <p:spPr>
              <a:xfrm>
                <a:off x="3375000" y="1230480"/>
                <a:ext cx="1514520" cy="1523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4" name="Picture 3" descr=""/>
              <p:cNvPicPr/>
              <p:nvPr/>
            </p:nvPicPr>
            <p:blipFill>
              <a:blip r:embed="rId3"/>
              <a:srcRect l="0" t="0" r="0" b="3772"/>
              <a:stretch/>
            </p:blipFill>
            <p:spPr>
              <a:xfrm>
                <a:off x="4905360" y="1230480"/>
                <a:ext cx="1542960" cy="1542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155" name=""/>
            <p:cNvGrpSpPr/>
            <p:nvPr/>
          </p:nvGrpSpPr>
          <p:grpSpPr>
            <a:xfrm>
              <a:off x="1778040" y="2838600"/>
              <a:ext cx="4687920" cy="1581120"/>
              <a:chOff x="1778040" y="2838600"/>
              <a:chExt cx="4687920" cy="1581120"/>
            </a:xfrm>
          </p:grpSpPr>
          <p:pic>
            <p:nvPicPr>
              <p:cNvPr id="156" name="Picture 4" descr=""/>
              <p:cNvPicPr/>
              <p:nvPr/>
            </p:nvPicPr>
            <p:blipFill>
              <a:blip r:embed="rId4">
                <a:lum contrast="-20000"/>
              </a:blip>
              <a:srcRect l="0" t="0" r="0" b="4261"/>
              <a:stretch/>
            </p:blipFill>
            <p:spPr>
              <a:xfrm>
                <a:off x="1778040" y="2838600"/>
                <a:ext cx="158112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7" name="Pictur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373560" y="2838600"/>
                <a:ext cx="153360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58" name="Picture 6" descr=""/>
              <p:cNvPicPr/>
              <p:nvPr/>
            </p:nvPicPr>
            <p:blipFill>
              <a:blip r:embed="rId6"/>
              <a:srcRect l="0" t="0" r="0" b="4372"/>
              <a:stretch/>
            </p:blipFill>
            <p:spPr>
              <a:xfrm>
                <a:off x="4923000" y="2838600"/>
                <a:ext cx="1542960" cy="1581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59" name="Picture 7" descr=""/>
            <p:cNvPicPr/>
            <p:nvPr/>
          </p:nvPicPr>
          <p:blipFill>
            <a:blip r:embed="rId7">
              <a:lum contrast="20000"/>
            </a:blip>
            <a:srcRect l="0" t="0" r="0" b="4314"/>
            <a:stretch/>
          </p:blipFill>
          <p:spPr>
            <a:xfrm>
              <a:off x="1778040" y="4484520"/>
              <a:ext cx="1581120" cy="149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17650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0880" y="1225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86280" y="1225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65080" y="2809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54120" y="28098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10760" y="2809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75160" y="4460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473880" y="1359000"/>
              <a:ext cx="546120" cy="1341360"/>
              <a:chOff x="6473880" y="1359000"/>
              <a:chExt cx="546120" cy="1341360"/>
            </a:xfrm>
          </p:grpSpPr>
          <p:sp>
            <p:nvSpPr>
              <p:cNvPr id="168" name=""/>
              <p:cNvSpPr/>
              <p:nvPr/>
            </p:nvSpPr>
            <p:spPr>
              <a:xfrm>
                <a:off x="6475320" y="17827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5320" y="159084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75320" y="14796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75320" y="201132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73880" y="2313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73880" y="25750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23200" y="13590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23200" y="146988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23200" y="1662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3200" y="18907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23200" y="219240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523200" y="2454120"/>
                <a:ext cx="496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00880" y="2938320"/>
              <a:ext cx="519120" cy="1437120"/>
              <a:chOff x="6500880" y="2938320"/>
              <a:chExt cx="519120" cy="1437120"/>
            </a:xfrm>
          </p:grpSpPr>
          <p:sp>
            <p:nvSpPr>
              <p:cNvPr id="181" name=""/>
              <p:cNvSpPr/>
              <p:nvPr/>
            </p:nvSpPr>
            <p:spPr>
              <a:xfrm>
                <a:off x="6502320" y="33814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02320" y="31701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02320" y="305928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02320" y="36352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00880" y="397512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00880" y="4249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50200" y="29383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50200" y="304956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50200" y="32608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0200" y="351468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0200" y="385452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50200" y="4129200"/>
                <a:ext cx="46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389400" y="4570560"/>
              <a:ext cx="534960" cy="1405080"/>
              <a:chOff x="3389400" y="4570560"/>
              <a:chExt cx="534960" cy="1405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390840" y="500688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90840" y="480204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90840" y="469116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90840" y="5254560"/>
                <a:ext cx="1047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89400" y="55818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89400" y="5850000"/>
                <a:ext cx="10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8360" y="45705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6814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6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8360" y="488628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360" y="513396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38360" y="546084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38360" y="5729400"/>
                <a:ext cx="48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369120" y="873000"/>
              <a:ext cx="5745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W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kDa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7:45:25Z</dcterms:created>
  <dc:creator>User</dc:creator>
  <dc:description/>
  <dc:language>en-US</dc:language>
  <cp:lastModifiedBy>User</cp:lastModifiedBy>
  <dcterms:modified xsi:type="dcterms:W3CDTF">2010-07-09T07:54:21Z</dcterms:modified>
  <cp:revision>4</cp:revision>
  <dc:subject/>
  <dc:title>Slide 1</dc:title>
</cp:coreProperties>
</file>